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AFB1-B5D5-4AB1-A455-CF8F72EA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F8BF-4953-46B6-AC89-8A62E6A7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CC8F-83D5-4B57-BB9E-C25A2EED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4E5A-EF6E-4F6A-90B7-F452BDE1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D2C6-6E49-4016-962F-8E17510D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7D4B-0472-436E-9F5C-F566FAE1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DEDF-2C91-43AF-A4D7-85D95107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1469-FFD6-4F0D-A0BB-717D0BB2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7ECE-C2DB-4DE1-9239-97CAC92E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09A8-11BD-450A-A6FB-ED3B637D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BEFD-1A0A-4DFA-9EA7-580BAB19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8AC3-EEFE-4AAC-95C8-C2D5E03E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4085-14CB-47CA-9077-CED936FA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964B-AA94-4B02-8AB8-D5A77C88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1ACA-A253-4102-8E7E-52C3936F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13E4-3B1D-4D2E-A7FF-7A63B599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2EC4-7870-4505-9026-58CBC03C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AF73-BC96-4C68-99F7-D6AF79D7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4B35-EE86-42C2-8C17-2DD3D4C3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E636-F56F-4089-A634-06F65491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166-9978-4C9A-AED6-1F45E47D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4713-C50C-4724-B1E4-35D8EF13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DB1-5B58-469D-95FD-54CF8D55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5E8-4A59-4154-A8C9-42C5FE45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36DA-7CF4-4E7B-BB9D-6F4AFE5B8C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BF09-00A5-4237-87B4-B60071DD67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ive Us A King -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United Kingdom, Part 2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88620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Quarter 5, Lesson 7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2 Samuel 21:15-22; 23:8-3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1 Chron. 11:10-47; 20:4-8; 22-29:22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ges 101-106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vid Plans For The Temple </a:t>
            </a:r>
            <a:br>
              <a:rPr sz="4400"/>
            </a:b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1 Chron. 22:17-19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vid exhorted the princes of Isra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o help Solomon build the templ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o remember that God was with them and had given them res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David Organizes The People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1 Chron. 23:2-27:34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Levi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ll men 30 and over count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24,000 to work around the templ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6,000 to be judges and officia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4,000 to be gatekeepers or guar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4,000 to lead the people in singing praise to Go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ivided them into their separate famil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ave each specific responsibilit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8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8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8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8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8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David Organizes The People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1 Chron. 23:2-27:34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iests were organized by 24 famil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rmy divided into 12 divisions of 24,00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tation system used for the temp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member God had warned the people that they would serve the king – now they are doing it!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David Assembles Israel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1 Chron. 28:1-29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e told them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ow God chose him and Solom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at Solomon will build the templ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o follow God’s commandments to keep the land and to pass it along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e publicly encouraged Solom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erve God faithfully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Build the temple of Go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Be strong and do it!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David Assembles Israel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1 Chron. 28:1-29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vid gave Solomon the blueprints (pattern) for the temp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iven by the Spirit of Go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e introduced Solomon to the assemb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people are before you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y will be entirely at your comman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Jehovah is with you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David Assembles Israel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1 Chron. 28:1-29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vid gave his personal gold and sil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e challenged the people to giv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people gave willingly and abundantly; David rejoic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vid prayed with the peop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aised Go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anked him for the gift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quested God to be with the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de great sacrifices that da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David’s Mighty Men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2 Sam. 21:15-22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bishai rescued David from a gia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avid was exhaust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is men would not let go to battle agai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hilistine giants killed at Gob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ibbecai slew Saph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lhanan slew brother of Goliath who carried a sword like a weaver’s bea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Jonathan slew a giant who had twelve fingers and twelve to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David’s Mighty Men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2 Sam. 23:8-12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top three in rank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66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Jashobeam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slew 300 (or 800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66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Eleazar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smote Philistines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(his hand so tired he could not remove his hand from the sword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66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Shammah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(and Eleazar) defended a field from the Philistines after everyone else had fle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David’s Mighty Men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2 Sam. 23:13-17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vid requested Bethlehem wat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t was only a casual reques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hilistines occupied Bethlehe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ree of his military leaders broke through the Philistines’ army to get the wat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vid did not drink the wat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oured it onto the ground unto the Lor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water was too valuable to drink because his men risk their lives for i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David’s Mighty Men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2 Sam. 23:18-23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bisha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Joab and Abner’s broth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illed 300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ighty but not ranked over the first thre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enaia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ead of David’s personal bodyguar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lew two sons of Ariel of Moab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illed a lion during the snow seas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illed a tall Egyptian with his own spear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David’s Mighty Men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2 Sam. 23:24-39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tal of 37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n additional 16 added in 1 Chron. 11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Thirty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must have been special to David or held special positions in his arm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vid Plans For The Temple </a:t>
            </a:r>
            <a:br>
              <a:rPr sz="4400"/>
            </a:b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1 Chron. 22:2-5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vid made great preparations for Solom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athered the necessary materia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asons to hew ston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ron for nai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rass in abunda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edar trees from Tyre and Sid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arge amounts of gold and silv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vid Plans For The Temple </a:t>
            </a:r>
            <a:br>
              <a:rPr sz="4400"/>
            </a:b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1 Chron. 22:6-12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selected Solomon to be the next ruler and the one to build the temp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ason why David could not build i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ason why Solomon would built i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olomon young and inexperienc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11</a:t>
            </a:r>
            <a:r>
              <a:rPr b="0" lang="en-US" sz="2800" spc="-1" strike="noStrike" baseline="30000">
                <a:solidFill>
                  <a:srgbClr val="ccec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of 17 s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od promised peace and quietnes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vid: May wisdom and understanding be with Solomon to keep the law of Go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vid Plans For The Temple </a:t>
            </a:r>
            <a:br>
              <a:rPr sz="4400"/>
            </a:b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1 Chron. 22:13-16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olomon given the secret to success in v.13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alk in God’s ways and He will bless you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vid’s part was o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killed workers assembl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uilding materials were ready in abunda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9:23:32Z</dcterms:created>
  <dc:creator>Don Vines</dc:creator>
  <dc:description/>
  <dc:language>en-US</dc:language>
  <cp:lastModifiedBy>Frank D Vines</cp:lastModifiedBy>
  <dcterms:modified xsi:type="dcterms:W3CDTF">2005-07-27T23:29:28Z</dcterms:modified>
  <cp:revision>14</cp:revision>
  <dc:subject/>
  <dc:title>Give Us A King - The United Kingdom, Part 2</dc:title>
</cp:coreProperties>
</file>